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.png" ContentType="image/png"/>
  <Override PartName="/ppt/media/image3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889-7684-4B0D-8661-1962A91A8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1B6-F69A-48EA-8098-A03B40D7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EC2-DF7E-498B-9701-BEFE76BD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C34-67F8-41C4-8A80-E27BBD7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BA4-08F0-427D-A53E-9D62FADA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D567B-A8C3-46E1-93B3-67344F4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F9119-A403-478B-A9A8-C49C47C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CC4BF-5AB7-455A-89B3-FD6B892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93DA-C739-4ABF-B2BB-7BB0F28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74A87-7952-4F56-B35C-05AC0AF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E9F60-E321-4E7B-831F-07AD9994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44FED-9246-4240-B568-538B8AF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669BC-8256-490C-924C-60BFC0E5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8FAB1-5430-4B5B-A6F4-C92FA001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501-D485-47C7-8F3C-E615D953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A1A-30D8-4171-B619-84C8EA00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E931-B9FE-49F1-B142-67CB303A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C038-F79C-44BE-8223-1BD2399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24C9-BC07-41DA-BC37-09146871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27E-D9C9-4053-B5CB-1A94238D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39AD-9129-4AB3-9B09-7780A49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697A-F97B-4CEF-9689-B420536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40B-8B3C-483A-962D-E52FCAD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519-E127-4D90-BE5B-58AF3331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480-870E-476D-AE3C-424D911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6519-C034-4FDC-95D7-FD6E8FA5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CD74-82D9-44EC-AF37-642DCC0D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3E1-F222-4ED4-9421-13230432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3AF9-CD8A-4C19-8BD1-CD3B869A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3678-46BF-4F36-BEBE-057C15B5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D1D0-BA8B-475E-AC4B-A047843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4366-3703-4282-BB56-8EED488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660B-21C4-4753-B0E6-90E3BD23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1EF7-8572-4BAB-9B7A-D2A3AC67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12C-358B-47D7-8BB3-1B06E2F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9D28-2D46-4DF1-815D-8579FE42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8616-60F8-4CE0-A1C4-31F6027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B441-A620-4E25-8383-8E845EC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B48E-A61D-4234-ACEA-FD2EAC1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8FD5-EDFA-4AA2-9B65-F9AA509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F1A4-7B6B-46D1-BFE8-823E9439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81F0-D56E-4F20-9462-21E9AAA1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574C-B1D8-4447-ABF3-91E6B966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33BA-A434-440E-B393-D2946A55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1021-3080-494B-A22B-EFC6D320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88F-DC28-403B-9C13-2D2859A6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E516-7881-4712-9A6F-B69D9E2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3373-7346-4CD5-9B7F-FAD8595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724B-1E4A-4705-94F8-7D7BC369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6319-CECA-467A-977E-7579D927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65A6-F592-417F-ACDB-1D2F53E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3987-2ADE-4270-8DAA-7491526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C535-30C1-4A8B-9F1D-E153B81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486A-757C-4DC8-AED8-6766FDB1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F2A4-DBC0-4C44-8DAD-DD67BB6C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BFFC-6726-47B2-A2D2-F18ED9A2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E4D-5D1F-4484-AD5F-DD2F30C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65D4-D5D7-4FFF-AAA1-BB472FA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3EC8-23F5-4C02-B547-5EADD186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10D8-BDB1-4084-A757-37018304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0862-A2DE-47E9-9DDF-AD4306F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E3CE-89E4-4B69-B7C1-B193976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824C-9542-44C5-8354-5A3E305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5449-42B3-4047-94E8-B9E4EE2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DAEB-78A7-4F15-B72D-DF38A75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C4FA-C509-4FF9-BAD1-15717F4E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42E9-861F-4432-8F9A-32FCB81C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A30-CB3C-44D5-8A9B-E70D03B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5D1D-4353-4FE0-81A7-6F8AC688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BA50-10A5-4280-8315-7BFC01AE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B6B33-7AEF-4741-AE4A-C2897D49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B209-7A05-4F8A-A44E-2B6CC0C5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F6CF-BFEC-468E-B241-7DAE0713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1A57-A1EE-4E78-8EB2-B725829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C098-E371-41EB-9B85-14778C0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4D6C-25E5-470F-B062-BB4B7A5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0A0B-94BE-4687-A560-7AAE078C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D5E83-B7A4-4BE6-BC22-C7FF2BF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229-8C9B-4DE6-B9F8-A09F101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6CE5-FF53-483A-9B7A-3E7447CF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4AB9-F01A-4E3A-A769-9CA96B45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2CE9-9A03-4B6D-9147-87E025AB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C7E3-59BF-4A26-A919-15F33802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7F14-4EB4-4A90-8060-7298B7F7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19CD9-3A06-4F23-9FD1-EC96ACF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228A-BB70-4270-BF76-AE2098D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5C1C-FFC2-4CA0-B6BA-120D7080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3792-BD6F-44BF-A389-74A87A7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5AEF-5085-449F-9DE3-37D5F07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BDC-2BD3-4C0D-A622-DDF41DB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39A0-5DC2-49B4-91C8-4C7101E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A286-CF17-4A6E-91EA-DB50A32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2786-DE69-4E8E-B42F-05DB8F6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B0D68-AC16-4F13-8991-992A9757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B57B-5AAA-4B97-9E0A-5F58520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987F-2ABD-4AB5-918E-95C58490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FA55-FE0B-48CD-885B-6361BD8C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E5D2-C11D-4150-9C38-ACE8974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472A-0EBC-47D6-9A02-2626DE3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E7212-ADE2-48E1-85BC-4DC38E4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504-7744-4655-8A9C-0D44B57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BCBB-50FB-4E06-9B22-92BA4BAB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9F279-DC77-4195-950F-ABE41A6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B5B00-9F57-4554-B532-3699EC7F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CCC8B-C3A2-4A06-9046-9A27175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D2569-D71D-4B13-99FB-AEDE09D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DF08B-600D-4E7D-AEED-D42140E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BB1D-B569-47F1-B8C7-E98049D2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D25A-A6C9-427B-A312-913026B1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4029F-7437-4172-A018-9074174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80A1A-1EFB-49D5-A4CA-54FDE0E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CFA-5EDD-49DD-9746-E0A6620C0D39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7B77-86BD-448F-A875-1E3242C54219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516C-A025-4463-9149-3E0EAF2CA4DC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05B-115D-4033-80CE-27676F63A7F8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507B-888B-484A-A790-847F22BDF365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7AF-9BBE-4E1C-95A7-D570BA09760B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8CBD-7BFB-45E3-A1DF-89FABB0E8FD2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B0B-BFB5-44A3-9F92-3EDC1B6AF700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A471-A71A-4720-B33E-8E007C269A32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-341280" y="755640"/>
            <a:ext cx="8120160" cy="1695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214360" y="2999880"/>
            <a:ext cx="67006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Celulele eucariote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au nucleu  delimitat de un 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î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nve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l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i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ş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nuclear 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ş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i membrane ce delimiteaz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ă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organite celulare.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55600" y="133200"/>
            <a:ext cx="3322800" cy="1208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http://www.phschool.com/science/biology_place/biocoach/images/cells/Vacuole.jpg"/>
          <p:cNvPicPr/>
          <p:nvPr/>
        </p:nvPicPr>
        <p:blipFill>
          <a:blip r:embed="rId2"/>
          <a:stretch/>
        </p:blipFill>
        <p:spPr>
          <a:xfrm>
            <a:off x="357120" y="2809800"/>
            <a:ext cx="3857760" cy="3486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http://www.biology.arizona.edu/cell_bio/tutorials/pev/graphics/vacuole.gif"/>
          <p:cNvPicPr/>
          <p:nvPr/>
        </p:nvPicPr>
        <p:blipFill>
          <a:blip r:embed="rId3"/>
          <a:stretch/>
        </p:blipFill>
        <p:spPr>
          <a:xfrm>
            <a:off x="1500120" y="1214280"/>
            <a:ext cx="1785960" cy="1336680"/>
          </a:xfrm>
          <a:prstGeom prst="rect">
            <a:avLst/>
          </a:prstGeom>
          <a:ln w="0">
            <a:noFill/>
          </a:ln>
        </p:spPr>
      </p:pic>
      <p:sp>
        <p:nvSpPr>
          <p:cNvPr id="437" name="Title 1"/>
          <p:cNvSpPr/>
          <p:nvPr/>
        </p:nvSpPr>
        <p:spPr>
          <a:xfrm>
            <a:off x="5286240" y="285840"/>
            <a:ext cx="3186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Comic Sans MS"/>
              </a:rPr>
              <a:t>LIZOZOM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http://www.biology.arizona.edu/cell_bio/tutorials/pev/graphics/lysosome.gif"/>
          <p:cNvPicPr/>
          <p:nvPr/>
        </p:nvPicPr>
        <p:blipFill>
          <a:blip r:embed="rId4"/>
          <a:stretch/>
        </p:blipFill>
        <p:spPr>
          <a:xfrm>
            <a:off x="5572080" y="242892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3.bp.blogspot.com/_IhrQCzSOfgY/SEIk1PZm29I/AAAAAAAAAFU/1tZv-XjCt1E/s400/66d3dc349dffilenameD235typeimagegif.gif"/>
          <p:cNvPicPr/>
          <p:nvPr/>
        </p:nvPicPr>
        <p:blipFill>
          <a:blip r:embed="rId2"/>
          <a:stretch/>
        </p:blipFill>
        <p:spPr>
          <a:xfrm>
            <a:off x="3786120" y="2214720"/>
            <a:ext cx="5180040" cy="4286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File:Plagiomnium affine laminazellen.jpeg"/>
          <p:cNvPicPr/>
          <p:nvPr/>
        </p:nvPicPr>
        <p:blipFill>
          <a:blip r:embed="rId3"/>
          <a:stretch/>
        </p:blipFill>
        <p:spPr>
          <a:xfrm>
            <a:off x="285840" y="1357200"/>
            <a:ext cx="340524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http://sites.google.com/site/scienceprofonline/CentrioleCentrosome2.jpg"/>
          <p:cNvPicPr/>
          <p:nvPr/>
        </p:nvPicPr>
        <p:blipFill>
          <a:blip r:embed="rId2"/>
          <a:stretch/>
        </p:blipFill>
        <p:spPr>
          <a:xfrm>
            <a:off x="357120" y="1428840"/>
            <a:ext cx="8472600" cy="500040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1" descr=""/>
          <p:cNvPicPr/>
          <p:nvPr/>
        </p:nvPicPr>
        <p:blipFill>
          <a:blip r:embed="rId1"/>
          <a:stretch/>
        </p:blipFill>
        <p:spPr>
          <a:xfrm>
            <a:off x="401760" y="281160"/>
            <a:ext cx="3079800" cy="1060200"/>
          </a:xfrm>
          <a:prstGeom prst="rect">
            <a:avLst/>
          </a:prstGeom>
          <a:ln w="0">
            <a:noFill/>
          </a:ln>
        </p:spPr>
      </p:pic>
      <p:sp>
        <p:nvSpPr>
          <p:cNvPr id="447" name="Title 1"/>
          <p:cNvSpPr/>
          <p:nvPr/>
        </p:nvSpPr>
        <p:spPr>
          <a:xfrm>
            <a:off x="4429080" y="357120"/>
            <a:ext cx="43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Comic Sans MS"/>
              </a:rPr>
              <a:t>FLAGEL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" descr="http://content8.eol.org/content/2008/12/10/20/31324_large.jpg"/>
          <p:cNvPicPr/>
          <p:nvPr/>
        </p:nvPicPr>
        <p:blipFill>
          <a:blip r:embed="rId2"/>
          <a:stretch/>
        </p:blipFill>
        <p:spPr>
          <a:xfrm>
            <a:off x="428760" y="1500120"/>
            <a:ext cx="3809880" cy="1838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http://l.yimg.com/www.flickr.com/images/spaceball.gif"/>
          <p:cNvPicPr/>
          <p:nvPr/>
        </p:nvPicPr>
        <p:blipFill>
          <a:blip r:embed="rId3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6" descr="http://l.yimg.com/www.flickr.com/images/spaceball.gif"/>
          <p:cNvPicPr/>
          <p:nvPr/>
        </p:nvPicPr>
        <p:blipFill>
          <a:blip r:embed="rId4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" descr="http://l.yimg.com/www.flickr.com/images/spaceball.gif"/>
          <p:cNvPicPr/>
          <p:nvPr/>
        </p:nvPicPr>
        <p:blipFill>
          <a:blip r:embed="rId5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0" descr="http://l.yimg.com/www.flickr.com/images/spaceball.gif"/>
          <p:cNvPicPr/>
          <p:nvPr/>
        </p:nvPicPr>
        <p:blipFill>
          <a:blip r:embed="rId6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2" descr="http://farm4.static.flickr.com/3343/3226101077_8f70398675.jpg"/>
          <p:cNvPicPr/>
          <p:nvPr/>
        </p:nvPicPr>
        <p:blipFill>
          <a:blip r:embed="rId7"/>
          <a:stretch/>
        </p:blipFill>
        <p:spPr>
          <a:xfrm>
            <a:off x="4786200" y="1285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http://micro.magnet.fsu.edu/cells/ciliaandflagella/images/ciliaandflagellafigure1.jpg"/>
          <p:cNvPicPr/>
          <p:nvPr/>
        </p:nvPicPr>
        <p:blipFill>
          <a:blip r:embed="rId8"/>
          <a:stretch/>
        </p:blipFill>
        <p:spPr>
          <a:xfrm>
            <a:off x="1428840" y="3643200"/>
            <a:ext cx="4814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328680" y="-6480"/>
            <a:ext cx="8407440" cy="1206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http://3.bp.blogspot.com/_VLonqa9WWQE/Sa8bbJlhbxI/AAAAAAAAAVI/IDRZj9aHvIY/s400/nucleo-celular.jpg"/>
          <p:cNvPicPr/>
          <p:nvPr/>
        </p:nvPicPr>
        <p:blipFill>
          <a:blip r:embed="rId2"/>
          <a:stretch/>
        </p:blipFill>
        <p:spPr>
          <a:xfrm>
            <a:off x="142920" y="1571760"/>
            <a:ext cx="6041880" cy="4214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http://www.scritube.com/files/biologie/30_poze/image030.jpg"/>
          <p:cNvPicPr/>
          <p:nvPr/>
        </p:nvPicPr>
        <p:blipFill>
          <a:blip r:embed="rId3"/>
          <a:stretch/>
        </p:blipFill>
        <p:spPr>
          <a:xfrm>
            <a:off x="6058080" y="4429080"/>
            <a:ext cx="30859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4572000" y="500040"/>
            <a:ext cx="4694400" cy="871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matragut.files.wordpress.com/2010/02/fig6_10.jpg"/>
          <p:cNvPicPr/>
          <p:nvPr/>
        </p:nvPicPr>
        <p:blipFill>
          <a:blip r:embed="rId2"/>
          <a:stretch/>
        </p:blipFill>
        <p:spPr>
          <a:xfrm>
            <a:off x="214200" y="1214280"/>
            <a:ext cx="4286520" cy="53802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romatina"/>
          <p:cNvPicPr/>
          <p:nvPr/>
        </p:nvPicPr>
        <p:blipFill>
          <a:blip r:embed="rId3"/>
          <a:stretch/>
        </p:blipFill>
        <p:spPr>
          <a:xfrm>
            <a:off x="5357880" y="1357200"/>
            <a:ext cx="3483000" cy="2281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Skeudenn:Nucleosome.jpg"/>
          <p:cNvPicPr/>
          <p:nvPr/>
        </p:nvPicPr>
        <p:blipFill>
          <a:blip r:embed="rId4"/>
          <a:stretch/>
        </p:blipFill>
        <p:spPr>
          <a:xfrm>
            <a:off x="4572000" y="4143240"/>
            <a:ext cx="28576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botanica.internet-caffe.net/admin/uploads/images/celula-vegetala.jpg"/>
          <p:cNvPicPr/>
          <p:nvPr/>
        </p:nvPicPr>
        <p:blipFill>
          <a:blip r:embed="rId1"/>
          <a:stretch/>
        </p:blipFill>
        <p:spPr>
          <a:xfrm>
            <a:off x="0" y="928800"/>
            <a:ext cx="4680000" cy="4984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www.doslourdes.net/monogr%C3%A1ficos-c%C3%A9lulas-metabolismo.jpg"/>
          <p:cNvPicPr/>
          <p:nvPr/>
        </p:nvPicPr>
        <p:blipFill>
          <a:blip r:embed="rId2"/>
          <a:stretch/>
        </p:blipFill>
        <p:spPr>
          <a:xfrm>
            <a:off x="4656240" y="928800"/>
            <a:ext cx="4487760" cy="5072040"/>
          </a:xfrm>
          <a:prstGeom prst="rect">
            <a:avLst/>
          </a:prstGeom>
          <a:ln w="0">
            <a:noFill/>
          </a:ln>
        </p:spPr>
      </p:pic>
      <p:sp>
        <p:nvSpPr>
          <p:cNvPr id="410" name="Title 1"/>
          <p:cNvSpPr/>
          <p:nvPr/>
        </p:nvSpPr>
        <p:spPr>
          <a:xfrm>
            <a:off x="5072040" y="214200"/>
            <a:ext cx="3357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Celula animal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tle 1"/>
          <p:cNvSpPr/>
          <p:nvPr/>
        </p:nvSpPr>
        <p:spPr>
          <a:xfrm>
            <a:off x="500040" y="214200"/>
            <a:ext cx="3357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Celula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vegetal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19240" y="281160"/>
            <a:ext cx="8375400" cy="957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28400" y="1285560"/>
            <a:ext cx="825804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RETELE CELULAR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666666"/>
                </a:solidFill>
                <a:latin typeface="Franklin Gothic Book"/>
              </a:rPr>
              <a:t>	</a:t>
            </a:r>
            <a:r>
              <a:rPr b="0" lang="en-US" sz="1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vel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rigid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prezent la celulele vegetale (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eluloza), celulele algelor (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eluloza), celulele fungale 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( 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hitina)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lipse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te la celulele animale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confer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individualitate fiec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rei celule, me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ne forma celulei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  contribuie la solidarizarea  celulelor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esuturi specializate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206360" y="133200"/>
            <a:ext cx="6986880" cy="1195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214960" y="1785600"/>
            <a:ext cx="35719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i: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rol protector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a informa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onal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(recep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on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stimuli externi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 inform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permane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t celula cu privire la condi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ile de mediu) 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a de control  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asupra schimburilor de substa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e pe care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celula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le realiz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u mediul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  <p:pic>
        <p:nvPicPr>
          <p:cNvPr id="416" name="Picture 2" descr="http://www.scritube.com/files/biologie/149_poze/image011.jpg"/>
          <p:cNvPicPr/>
          <p:nvPr/>
        </p:nvPicPr>
        <p:blipFill>
          <a:blip r:embed="rId2"/>
          <a:stretch/>
        </p:blipFill>
        <p:spPr>
          <a:xfrm>
            <a:off x="357120" y="2071800"/>
            <a:ext cx="4340160" cy="27144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1160280" y="500076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ul mozaicului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www.glogster.com/media/5/15/72/32/15723230.jpg"/>
          <p:cNvPicPr/>
          <p:nvPr/>
        </p:nvPicPr>
        <p:blipFill>
          <a:blip r:embed="rId1"/>
          <a:stretch/>
        </p:blipFill>
        <p:spPr>
          <a:xfrm>
            <a:off x="345960" y="2714760"/>
            <a:ext cx="8280360" cy="39956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158760" y="304920"/>
            <a:ext cx="883908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28760" y="78588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citoplasma fundamentală 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=CITOSOL (hialoplasm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) 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 care este 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globat CITOSCHELETUL</a:t>
            </a: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ORGANITELE CELULARE</a:t>
            </a: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1" name="Title 1"/>
          <p:cNvSpPr/>
          <p:nvPr/>
        </p:nvSpPr>
        <p:spPr>
          <a:xfrm>
            <a:off x="2143080" y="2643120"/>
            <a:ext cx="5143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te celulare comune celulei vegetale 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ni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407440" cy="1206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Reticul endoplasmic rugos.jpg - "/>
          <p:cNvPicPr/>
          <p:nvPr/>
        </p:nvPicPr>
        <p:blipFill>
          <a:blip r:embed="rId2"/>
          <a:stretch/>
        </p:blipFill>
        <p:spPr>
          <a:xfrm>
            <a:off x="4357800" y="3429000"/>
            <a:ext cx="424656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i723.photobucket.com/albums/ww237/alphamalik/endoplasmicreticulumfigure1.jpg"/>
          <p:cNvPicPr/>
          <p:nvPr/>
        </p:nvPicPr>
        <p:blipFill>
          <a:blip r:embed="rId3"/>
          <a:stretch/>
        </p:blipFill>
        <p:spPr>
          <a:xfrm>
            <a:off x="0" y="1143000"/>
            <a:ext cx="5400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15920" y="281160"/>
            <a:ext cx="8405640" cy="1450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6143760" cy="3700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t3.gstatic.com/images?q=tbn:ANd9GcQlQDgiX7GpNXpvZxDJXxQtBHHl0zUXu8xvjwCSHd1Nb0wTPoU&amp;t=1&amp;usg=__LlYShNCUQp_brhXFAUfn7YJDy7U="/>
          <p:cNvPicPr/>
          <p:nvPr/>
        </p:nvPicPr>
        <p:blipFill>
          <a:blip r:embed="rId3"/>
          <a:stretch/>
        </p:blipFill>
        <p:spPr>
          <a:xfrm>
            <a:off x="6215040" y="4214880"/>
            <a:ext cx="2747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69800" y="201600"/>
            <a:ext cx="7948800" cy="1560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357120" y="100008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www.becomehealthynow.com/images/organs/cells/endo_retic.jpg"/>
          <p:cNvPicPr/>
          <p:nvPr/>
        </p:nvPicPr>
        <p:blipFill>
          <a:blip r:embed="rId3"/>
          <a:stretch/>
        </p:blipFill>
        <p:spPr>
          <a:xfrm>
            <a:off x="4643280" y="3071880"/>
            <a:ext cx="4305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146240" y="219240"/>
            <a:ext cx="6576840" cy="1542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Slika:Golgi apparatus.jpg"/>
          <p:cNvPicPr/>
          <p:nvPr/>
        </p:nvPicPr>
        <p:blipFill>
          <a:blip r:embed="rId2"/>
          <a:stretch/>
        </p:blipFill>
        <p:spPr>
          <a:xfrm>
            <a:off x="285840" y="928800"/>
            <a:ext cx="4214880" cy="5594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Fișier:Human leukocyte, showing golgi - TEM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5:24:29Z</dcterms:created>
  <dc:creator>Adi</dc:creator>
  <dc:description/>
  <dc:language>en-US</dc:language>
  <cp:lastModifiedBy>Adi</cp:lastModifiedBy>
  <dcterms:modified xsi:type="dcterms:W3CDTF">2010-10-18T09:12:33Z</dcterms:modified>
  <cp:revision>31</cp:revision>
  <dc:subject/>
  <dc:title>CELULA EUCARIOTA</dc:title>
</cp:coreProperties>
</file>